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C5D9D7-33BE-4711-8371-408BD51C82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ote – more relations defined and used in test ontology – not shown 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I’m going to quickly take you through the running example I’m going to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a stage 8 Drosophila embry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eck Fabian’s formal version to make vernacular form to deal with ‘or after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28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VNC primordium has GMC 7-1b as a part from stage 9 to stage 13, but not before or af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U2 neurons are part of the VNC primordium from stage 12, AND part of the VNC from stage 17 through larval st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 – relation to has_part de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: Relation to part_of 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euroblasts delaminate from the VNE, and then bud off daughter cells called ganglion mother c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nce delaminated, Neuroblasts become part of a growing tissue called the Ventral nerve cord primordium.  Ganglion mother cells stay close to the NB the bud fr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just shows the same thing a bit later.  More NBs, many more GM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just to show, that the timing of delamination is predictable for each type of neuroblast.  Different NBs delaminated at different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30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shows developmental lineage of the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uring stage 8, neuroblast NB7-1 delaminates from the VNE and becomes part of the VNC primor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) During stage 9, GMC 7-1b buds from NB 7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i) Towards the end of stage 12, GMC7-1b divides and one of the progeny starts to differentiate into a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a staging system to record when GMC 7-1b exists… - various types of staging system have been built by different MODS.  We’ve tried to standardise and formalise on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rt relations shown cannot be recorded (I’ll show you why later).  So, from the ontology, our curator can’t tell what GMC 7-1b is part of. And, in grouping gene expression, we can’t deduce that a gene expressed in GMC 7-1b is expressed in part of the VNC primordi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We treat developmental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mphasise - This applies to development of a whole animal, of some part of that animal or to processes that are repeated many times during development – e.g.- ommatidial development, or in an adult – e.g.- oogen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EF6B-A1D3-4391-8DB0-BE0ECB22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E8D8-E427-4C74-AEBF-222C69F3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827-9137-4651-90A1-286180EF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F7BF-4A22-42B2-97F6-2A0C537B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EFD3-25BD-489C-A1A7-45592973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5E4-C216-4BBF-8EB4-39819698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00DD-6528-4819-8C74-B5590870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5282-F2CD-476F-AA87-10BB334D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4F3-B3A5-4860-8F78-F937A546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D4D-0A38-439D-9361-6883BA1E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B25E-3601-47C3-B20C-3745F738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99D-A06B-4B29-9C00-9933B778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43D64-F85F-4101-A46F-6B50330A32D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epresenting Develo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Osumi-Sutherland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bian Neuhau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for order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 are treated as instants – they  have no time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only 2 types of timing relationships between event instances (e,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lt;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ultane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≈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can be deriv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_or_simultaneous_ with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&lt;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NOT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≈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44680" y="4032360"/>
            <a:ext cx="396864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7240" y="3476520"/>
            <a:ext cx="396864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4151160"/>
            <a:ext cx="180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4440" y="34862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58800" y="4711680"/>
            <a:ext cx="150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27800" y="4651200"/>
            <a:ext cx="1571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13320" y="429588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8400" y="3484440"/>
            <a:ext cx="144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6200" y="2000160"/>
            <a:ext cx="1230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81400" y="4630680"/>
            <a:ext cx="1463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500220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0" y="441360"/>
            <a:ext cx="99997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instances of occurrents, continu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19461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(p)  - beginning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(p) - end of a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om: α(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(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330372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8280" y="29034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000" y="5748480"/>
            <a:ext cx="9072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rts_du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 := (α(p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α(x)) AND (α(x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ω(p)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3476520"/>
            <a:ext cx="251316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60" y="455292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4080" y="4707000"/>
            <a:ext cx="1571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31120" y="34988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variability of the order of two events is always relative to some referenc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before Y during o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instances of oogenesis occur in parallel in an adult female, but with no shared star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, relative to the life of an adult female, X and Y have no invarian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osophila 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60360" y="197964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77080" y="723960"/>
            <a:ext cx="1927080" cy="65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rnary rela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 processes could be recorded using ternary relations (A before B during C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se are not supported in OWL or OBO, or by their respective editing tools – Protege and OBO-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93240"/>
            <a:ext cx="9071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avoid using ternar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440000"/>
            <a:ext cx="9070920" cy="59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type for which timing is to be captured – record a reference oc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Continuant or Occurrent types have only one referenc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ccurrents occur only once during their referenc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n occurrant, then 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 continuant, then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icipates_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430200"/>
            <a:ext cx="9070920" cy="67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-&gt;  (Universal(x) &amp; is_a(y,Occurrent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 referenceoccurrent(x, z) -&gt;  (y =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Occurre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ilo_part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ilo_part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Continua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participates_in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participates_in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vision of reference process into a referenc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54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4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68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736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90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205596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4600" y="18716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78160" y="228132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90520" y="2894040"/>
            <a:ext cx="93348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llular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29440" y="284328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omodeal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76360" y="290844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3564000"/>
            <a:ext cx="3995640" cy="3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 ban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8520" y="3435480"/>
            <a:ext cx="154620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P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2317680"/>
            <a:ext cx="776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520" y="2843280"/>
            <a:ext cx="1004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319640"/>
            <a:ext cx="79200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bryonic stage 5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egins_at_end_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 embryonic stag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modeal invagination begins_at_end_of embryonic stage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14440" y="2352600"/>
            <a:ext cx="655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begins_at_end_o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– formal 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begin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_at_end_of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↔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O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 P</a:t>
            </a:r>
            <a:r>
              <a:rPr b="1" lang="en-GB" sz="3200" spc="-1" strike="noStrike" baseline="-4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∀o (O(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(P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refoccurrent(o) = refoccurrent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(omega(p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pha(o)))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relation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unique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imultaneous_with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appens_during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s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87720" y="838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10360" y="694044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985680"/>
            <a:ext cx="5219640" cy="567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341964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 = Ventral 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5616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48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3720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262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1860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5480" y="1531800"/>
            <a:ext cx="9128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to exist during*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art to exist during* </a:t>
            </a:r>
            <a:r>
              <a:rPr b="1" lang="en-GB" sz="2000" spc="-1" strike="noStrike">
                <a:solidFill>
                  <a:srgbClr val="aecf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start to exist after the end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during is shorthand for 'the start of X is after the start of Y and before the end of Y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14840" y="534348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5329080"/>
            <a:ext cx="47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83120" y="59245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90960" y="536688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080" y="5545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999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560" y="454500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0560" y="41497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_a inheritance of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616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448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41860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44880" y="5041800"/>
            <a:ext cx="476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6160" y="5041800"/>
            <a:ext cx="1191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588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86440" y="5357880"/>
            <a:ext cx="2432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9280" y="59119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54320" y="591192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4960" y="6227640"/>
            <a:ext cx="1906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48120" y="535284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48720" y="5853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23320" y="5033880"/>
            <a:ext cx="7920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150192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2 (ES12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50840" y="546084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212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– formal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_begin_to_exist_dur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is_a  Oc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∀ c ∀ t  ( C (c,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ccurrent(c) = refoccurrent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o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pha(c)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c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mega(o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timing relation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8720" y="1292040"/>
            <a:ext cx="9070920" cy="64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non-unique continu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a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begin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cease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eases_to_exist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ists_only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d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8768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676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9080" y="306720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960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5012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6760" y="378144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7680" y="378144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5776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098960"/>
            <a:ext cx="24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0" y="465120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4000" y="61596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651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915080" y="5519520"/>
            <a:ext cx="64440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10360" y="4967280"/>
            <a:ext cx="19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81440" y="409392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80240" y="4594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0000" y="3940200"/>
            <a:ext cx="47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89480" y="394020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667560" y="5358960"/>
            <a:ext cx="5540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54840" y="377496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89840" y="3933720"/>
            <a:ext cx="7934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6120" y="2006640"/>
            <a:ext cx="912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3112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54640" y="5719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99560" y="5608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7520" y="42876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has_par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08000" y="2130480"/>
            <a:ext cx="80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s_p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, no matter wha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800" y="4834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294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22720" y="539892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6560" y="531504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720" y="1177920"/>
            <a:ext cx="84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NC pr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all stages tha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23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ution to the part problem: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ime_restricted_integral_part_of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ri_part_o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5880" y="25700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y time point where some instance of X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of Y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ime_restricted_integral_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1640" y="1547640"/>
            <a:ext cx="9071280" cy="57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is_a  Contin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 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is_a 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3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 tr_integral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&amp; 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00536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9588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7728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924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95880" y="425772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05360" y="425772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75440" y="4573440"/>
            <a:ext cx="1029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308640" y="4554000"/>
            <a:ext cx="24894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184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53120" y="6635880"/>
            <a:ext cx="134784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038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94320" y="5942160"/>
            <a:ext cx="635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34160" y="54435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99120" y="456840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97920" y="5068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6160" y="61293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880" y="5923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97320" y="441648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06800" y="44164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181640" y="5842080"/>
            <a:ext cx="56340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83400" y="60008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04960" y="512748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129120" y="5448240"/>
            <a:ext cx="1201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97280" y="47322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89640" y="4429080"/>
            <a:ext cx="2417760" cy="146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94440" y="4255920"/>
            <a:ext cx="4881600" cy="158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373960" y="425124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707160" y="4410000"/>
            <a:ext cx="793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99120" y="4414680"/>
            <a:ext cx="119052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6120" y="520560"/>
            <a:ext cx="9128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 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850240" y="4573440"/>
            <a:ext cx="1030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771040" y="440064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3280" y="24444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to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3 (ES13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5384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36920" y="535608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365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4680" y="3556080"/>
            <a:ext cx="4782960" cy="172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566200" y="373068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10000" y="2144880"/>
            <a:ext cx="3409920" cy="4079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09520"/>
            <a:ext cx="907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uroblast delamination from the ventral neurectode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440400" y="4746240"/>
            <a:ext cx="68112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34480" y="4551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13320" y="3951360"/>
            <a:ext cx="68112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6520" y="37036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glion moth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4520" y="2959200"/>
            <a:ext cx="43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8960" y="3440160"/>
            <a:ext cx="82692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9360" y="4862520"/>
            <a:ext cx="480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70360" y="5614920"/>
            <a:ext cx="617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400" y="538488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0320" y="1943280"/>
            <a:ext cx="2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8000" y="2476440"/>
            <a:ext cx="17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N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59080" y="612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80000" y="3780000"/>
            <a:ext cx="2857320" cy="328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1280" y="5921280"/>
            <a:ext cx="1003320" cy="598680"/>
          </a:xfrm>
          <a:custGeom>
            <a:avLst/>
            <a:gdLst/>
            <a:ahLst/>
            <a:rect l="l" t="t" r="r" b="b"/>
            <a:pathLst>
              <a:path w="573" h="342">
                <a:moveTo>
                  <a:pt x="0" y="0"/>
                </a:moveTo>
                <a:lnTo>
                  <a:pt x="141" y="42"/>
                </a:lnTo>
                <a:lnTo>
                  <a:pt x="339" y="144"/>
                </a:lnTo>
                <a:lnTo>
                  <a:pt x="393" y="141"/>
                </a:lnTo>
                <a:lnTo>
                  <a:pt x="444" y="168"/>
                </a:lnTo>
                <a:lnTo>
                  <a:pt x="573" y="213"/>
                </a:lnTo>
                <a:lnTo>
                  <a:pt x="501" y="342"/>
                </a:lnTo>
                <a:lnTo>
                  <a:pt x="318" y="282"/>
                </a:lnTo>
                <a:lnTo>
                  <a:pt x="141" y="189"/>
                </a:lnTo>
                <a:lnTo>
                  <a:pt x="69" y="159"/>
                </a:lnTo>
                <a:lnTo>
                  <a:pt x="30" y="7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854440" y="5217840"/>
            <a:ext cx="128088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9520" y="449424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5843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ganglion mother cell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3440" y="689436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57560" y="539640"/>
            <a:ext cx="5481360" cy="270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2757600" y="2892240"/>
            <a:ext cx="1665000" cy="17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3680" y="725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9280" y="3830760"/>
            <a:ext cx="3174840" cy="3225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67320" y="6037200"/>
            <a:ext cx="850680" cy="566640"/>
          </a:xfrm>
          <a:custGeom>
            <a:avLst/>
            <a:gdLst/>
            <a:ahLst/>
            <a:rect l="l" t="t" r="r" b="b"/>
            <a:pathLst>
              <a:path w="486" h="324">
                <a:moveTo>
                  <a:pt x="0" y="0"/>
                </a:moveTo>
                <a:cubicBezTo>
                  <a:pt x="2" y="42"/>
                  <a:pt x="6" y="168"/>
                  <a:pt x="6" y="126"/>
                </a:cubicBezTo>
                <a:lnTo>
                  <a:pt x="210" y="270"/>
                </a:lnTo>
                <a:lnTo>
                  <a:pt x="438" y="324"/>
                </a:lnTo>
                <a:lnTo>
                  <a:pt x="486" y="144"/>
                </a:lnTo>
                <a:lnTo>
                  <a:pt x="384" y="96"/>
                </a:lnTo>
                <a:lnTo>
                  <a:pt x="246" y="90"/>
                </a:lnTo>
                <a:lnTo>
                  <a:pt x="126" y="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506760" y="6252840"/>
            <a:ext cx="106056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1760" y="610380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718668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30320" y="590400"/>
            <a:ext cx="63500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85960" y="1720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8720" y="1658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200" y="4479840"/>
            <a:ext cx="7783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" y="446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rly ES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2960" y="16891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3412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blast delamination from VNE to VNC primo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5203800"/>
            <a:ext cx="88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circle is a specific neuroblast (NB)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urs denote gen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1800" y="2260440"/>
            <a:ext cx="2705400" cy="261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89480" y="2224080"/>
            <a:ext cx="2512800" cy="262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2040" y="2205000"/>
            <a:ext cx="2390760" cy="269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76520" y="3332160"/>
            <a:ext cx="74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51440" y="330372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of U2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5923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6208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2960" y="2913120"/>
            <a:ext cx="71100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782960" y="2940120"/>
            <a:ext cx="61128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84720" y="4781160"/>
            <a:ext cx="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8160" y="160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3480" y="26067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20480" y="2968560"/>
            <a:ext cx="9190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240" y="26496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81760" y="2016000"/>
            <a:ext cx="1440" cy="6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7440" y="2057400"/>
            <a:ext cx="144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44360" y="15667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2560" y="1579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51080" y="439884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6040" y="441324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943080" y="4732200"/>
            <a:ext cx="61092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7560" y="5402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64520" y="204480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521560" y="5824440"/>
            <a:ext cx="6112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9960" y="559908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03560" y="3471840"/>
            <a:ext cx="541440" cy="75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5560" y="3541680"/>
            <a:ext cx="2514600" cy="7002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49680" y="3443400"/>
            <a:ext cx="4643280" cy="8254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4360" y="3486240"/>
            <a:ext cx="248796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478720" y="5514840"/>
            <a:ext cx="611280" cy="1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19760" y="5289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6521400"/>
            <a:ext cx="660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specific part relations such as these can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ed using standard OB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mitations of curr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45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27760" y="5950080"/>
            <a:ext cx="134928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3520" y="5315040"/>
            <a:ext cx="63468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10240" y="47577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4000" y="4383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00520" y="5472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957720" y="5154480"/>
            <a:ext cx="5634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398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3280" y="1406520"/>
            <a:ext cx="91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 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37200" y="4013280"/>
            <a:ext cx="419040" cy="23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356868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ed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to connect anatomy to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961400" y="4054320"/>
            <a:ext cx="218880" cy="192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37000" y="3416400"/>
            <a:ext cx="470376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66040" y="3443400"/>
            <a:ext cx="1440" cy="182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64320" y="3927600"/>
            <a:ext cx="420840" cy="188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123640" y="5796000"/>
            <a:ext cx="2529000" cy="7002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70320" y="5608800"/>
            <a:ext cx="2954520" cy="3031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00" y="6396120"/>
            <a:ext cx="43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Nee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system for capturing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 specific part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86848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= embryonic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developmental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0400" y="1979640"/>
            <a:ext cx="8229600" cy="77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y developmenta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ces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- development of a whole organism) many events happen in an invariant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vents can be used as markers of developmental progress or time. This is the basis of many standard stag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marker events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rth, death, or transformation an anatomical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ginning, end and key point in a development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